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30852-6D47-46F3-A3CB-1FE765CCF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C281-D3BF-4AAC-9F4B-3EB8F87C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8858-F3BE-43EA-B00B-8B36CC31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246F-0DF0-476B-AB53-4CE7E6118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F7F2-20D8-490D-882A-9ACE145A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4E54B-CB35-460A-BC55-5B0ADA3DE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6C0EE-92E2-41F9-9696-5A95450CE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8817-ABE3-4F21-9E67-D89C3856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9642-0E9B-4121-A830-16187755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6DC-A96B-4C59-9DB8-E7A22C22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C944-7C91-4554-A396-96A92A32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EA7D-B7C5-45F7-AED7-CDB0F361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50F5D-D79E-40D1-89E1-41F707396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ing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ing Ethnic Divers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help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groups for different min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nese Development Assistance Council (CDA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Indian Development Association (SIND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da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urasian Assoc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members of their community who are less fortunate get 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help Grou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give mor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Singaporeans to cope and compete with one another on equal fo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people from minorities improve their social and economic po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2002, different groups have embarked on joint pro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vides opportunity for youths from different ethnic backgrounds to inte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3 Developing Common Sp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nts and programmes organised by grassroots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portunities offered by educational instit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living space provided by public hou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ities conducted by Inter-Racial Confidence Circes (IRCCs) and Harmony Circles (HC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d experience through National Servi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ents and programmes organised by grassroots organis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sroots organisations such as People’s Association (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de range of programmes to cater to needs and interests of Singapor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e visit / Home St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participants to better understand other cultures and custo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 friendships can be bui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pportunities offered by educational institution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ducational institutions are open to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from different races and religions study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ons and school activities cultivate and strengthen friend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-Curricular Activities (CCAs) help promote closer bo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learn to appreciate one another’s talents and respect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mon living space provided by public housing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0s, too many people from the same racial group were living in the same e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hindered bo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89, ethnic integration policy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uts a limit on the proportion of races in every neighbourhood and blo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ving together provides opportunities for people from different groups to inter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tivities conducted by IRCCs and HC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CCs introduced in Jan 2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ties of IRCCs include visits to places of wo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portunities created to appreciate differences and develop strong bonds between different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place inter-religious and inter-racial activities carried out by H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build confidence and friendshi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hared experience through National Service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ervice introduced in 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ared experiences going through military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engthens bonds among 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Ethnic Divers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Building Nation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Safeguarding the Interests of the Minority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 Developing Common 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Building National Ident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Raci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Pract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ingual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raci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icy of multi-racialism promotes equality among all 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special rights gran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al opportunities to succ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vouring a certain group is prohibi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everyone is a valued member of Singapore, a sense of national identity is cre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that Singaporeans carry out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ing the National An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king the pled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foster nation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ingual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in 196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ts expected to learn English and Mother Ton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glish is used as a bridge between the r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 Tongue used to impart moral values and tra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Safeguarding the interests of the minor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nority Re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f-Help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ority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s minority groups a say in gover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ial Council on Minority Rights (PMC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up Representation Constituency (GR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CR consists of members from minority racial and religio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MCR ensures that no race or religion is disadvanta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ority Re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C ensures that at least one candidate contesting in the General Election is a min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C system ensures that minorities are represented i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rns and needs of the minority groups are made known i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9:41:27Z</dcterms:created>
  <dc:creator>moe</dc:creator>
  <dc:description/>
  <dc:language>en-US</dc:language>
  <cp:lastModifiedBy>moe</cp:lastModifiedBy>
  <dcterms:modified xsi:type="dcterms:W3CDTF">2009-03-15T10:07:10Z</dcterms:modified>
  <cp:revision>2</cp:revision>
  <dc:subject/>
  <dc:title>Bonding Singapore</dc:title>
</cp:coreProperties>
</file>